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9ED3-175A-4389-9AB2-2EE3704885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556E-E308-4BE0-9B8F-D7E9231087B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D8B0-F354-492E-9AD3-0EDB766E33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8EC5-1087-415A-8DEC-4E33CCDEAA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ADF8-6125-4AB0-A22B-5FB0764A8A5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E3CF-E8E1-4C10-A205-D51BA9597C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CD1F-DA44-4FE7-A5FB-5B7059E6C4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1625-1D7D-4871-A39D-4B11399364C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A5EE-D02B-43B0-A1BC-CE411D63FF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38A9-0121-4877-A0EC-FDE1662F18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E703-6386-4C68-B75E-2303E88CA40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6ACC-9B46-468F-89BF-901A29FA6F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F1C1-C61C-4D11-B24D-CD7BE4BC13C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2ADC-7716-4CAA-94B7-28A26D1F7F7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3247-1BA8-465D-B908-CE929FBB9D9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34F-9B1D-4EFA-8347-16CD3B70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FE5-AEF5-4D7F-B7CA-EE053F0F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78A-AC3B-4A0B-9D7E-C4045705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6A8-302B-4C23-AC57-7630E33D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41D-9776-4B10-B31B-506E10D3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11E-F051-4F09-BB4C-751D24E9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312-DB20-4FD6-AF77-86B003C9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9F1-91DD-41F7-BD34-62FAEF8C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FC8-FB40-4206-9130-DB74AED4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395-4481-4C83-96F7-315A0D34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149-7E56-49D1-AF82-BDAC229F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88B-9F19-45AD-A402-F88B5D12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5299-7472-4A28-A125-38FE0F702C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4.png"/><Relationship Id="rId6" Type="http://schemas.openxmlformats.org/officeDocument/2006/relationships/image" Target="../media/image28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C6C7-7A53-4ED9-A23D-9BB51002E5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52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rostokąt 12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Diagram 13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ryteria wyszukiwania informacji w katalogach biblioteczny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65760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auto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tytuł (lub nawet fragmentu tytułu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słowa klucz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symbol UK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dawnictw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rok wydan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hasło przedmiot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numer ISBN lub ISS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Obraz 5" descr="know.jpg"/>
          <p:cNvPicPr/>
          <p:nvPr/>
        </p:nvPicPr>
        <p:blipFill>
          <a:blip r:embed="rId1"/>
          <a:stretch/>
        </p:blipFill>
        <p:spPr>
          <a:xfrm>
            <a:off x="152280" y="2971800"/>
            <a:ext cx="327672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łączenia kryteriów wyszukiwani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1920" y="7621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szczególne kryteria mogą być łączone ze sobą za pomocą operatorów logicznych AND, OR i NO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rostokąt zaokrąglony 5"/>
          <p:cNvSpPr/>
          <p:nvPr/>
        </p:nvSpPr>
        <p:spPr>
          <a:xfrm>
            <a:off x="990720" y="4267080"/>
            <a:ext cx="6629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NOT (nie) - „samochód not sportowy” uzyskamy wszystkie rekordy zawierające słowo samochód i jednocześnie nie zawierające słowa sportow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rostokąt zaokrąglony 6"/>
          <p:cNvSpPr/>
          <p:nvPr/>
        </p:nvSpPr>
        <p:spPr>
          <a:xfrm>
            <a:off x="990720" y="3124080"/>
            <a:ext cx="6553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AND (i) – „samochód and sportowy” uzyskamy o wiele mniejszą liczbę zwróconych rekordów, takich, w których występują oba podane wyra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rostokąt zaokrąglony 7"/>
          <p:cNvSpPr/>
          <p:nvPr/>
        </p:nvSpPr>
        <p:spPr>
          <a:xfrm>
            <a:off x="990720" y="1981080"/>
            <a:ext cx="6553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OR (lub) – „samochód or sportowy” wyszukamy wszystkie rekordy, które zawierają którykolwiek z podanych wyraz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olny kształt 8"/>
          <p:cNvSpPr/>
          <p:nvPr/>
        </p:nvSpPr>
        <p:spPr>
          <a:xfrm>
            <a:off x="990720" y="5486400"/>
            <a:ext cx="6553080" cy="925560"/>
          </a:xfrm>
          <a:prstGeom prst="pie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35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240" rIns="111240" tIns="111240" bIns="11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dane operatory możesz także stosowa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 przeglądarkach internetow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2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rezentowani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-36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Istnieje możliwość zaprezentowania tych samych danych i informacji w różny sposób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upa 18"/>
          <p:cNvGrpSpPr/>
          <p:nvPr/>
        </p:nvGrpSpPr>
        <p:grpSpPr>
          <a:xfrm>
            <a:off x="536760" y="1828800"/>
            <a:ext cx="7127280" cy="2568960"/>
            <a:chOff x="536760" y="1828800"/>
            <a:chExt cx="7127280" cy="2568960"/>
          </a:xfrm>
        </p:grpSpPr>
        <p:grpSp>
          <p:nvGrpSpPr>
            <p:cNvPr id="181" name="Grupa 10"/>
            <p:cNvGrpSpPr/>
            <p:nvPr/>
          </p:nvGrpSpPr>
          <p:grpSpPr>
            <a:xfrm>
              <a:off x="5184720" y="2133720"/>
              <a:ext cx="2479320" cy="2264040"/>
              <a:chOff x="5184720" y="2133720"/>
              <a:chExt cx="2479320" cy="2264040"/>
            </a:xfrm>
          </p:grpSpPr>
          <p:pic>
            <p:nvPicPr>
              <p:cNvPr id="182" name="Obraz 8" descr="6543357357_01a6fa0fee_m.jpg"/>
              <p:cNvPicPr/>
              <p:nvPr/>
            </p:nvPicPr>
            <p:blipFill>
              <a:blip r:embed="rId1"/>
              <a:stretch/>
            </p:blipFill>
            <p:spPr>
              <a:xfrm rot="522000">
                <a:off x="5319360" y="2289600"/>
                <a:ext cx="2209680" cy="19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Prostokąt 9"/>
              <p:cNvSpPr/>
              <p:nvPr/>
            </p:nvSpPr>
            <p:spPr>
              <a:xfrm rot="3233400">
                <a:off x="5739480" y="3031560"/>
                <a:ext cx="140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tekst ciągł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upa 14"/>
            <p:cNvGrpSpPr/>
            <p:nvPr/>
          </p:nvGrpSpPr>
          <p:grpSpPr>
            <a:xfrm>
              <a:off x="4042080" y="1828800"/>
              <a:ext cx="1745280" cy="1741320"/>
              <a:chOff x="4042080" y="1828800"/>
              <a:chExt cx="1745280" cy="1741320"/>
            </a:xfrm>
          </p:grpSpPr>
          <p:pic>
            <p:nvPicPr>
              <p:cNvPr id="185" name="Obraz 6" descr="6543357687_7eb2ab49a5_m.jpg"/>
              <p:cNvPicPr/>
              <p:nvPr/>
            </p:nvPicPr>
            <p:blipFill>
              <a:blip r:embed="rId2"/>
              <a:stretch/>
            </p:blipFill>
            <p:spPr>
              <a:xfrm rot="813600">
                <a:off x="4190760" y="1978200"/>
                <a:ext cx="1447560" cy="144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Prostokąt 13"/>
              <p:cNvSpPr/>
              <p:nvPr/>
            </p:nvSpPr>
            <p:spPr>
              <a:xfrm rot="1980000">
                <a:off x="4474080" y="2461320"/>
                <a:ext cx="84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tabel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upa 16"/>
            <p:cNvGrpSpPr/>
            <p:nvPr/>
          </p:nvGrpSpPr>
          <p:grpSpPr>
            <a:xfrm>
              <a:off x="2594160" y="1828800"/>
              <a:ext cx="1678320" cy="1671840"/>
              <a:chOff x="2594160" y="1828800"/>
              <a:chExt cx="1678320" cy="1671840"/>
            </a:xfrm>
          </p:grpSpPr>
          <p:pic>
            <p:nvPicPr>
              <p:cNvPr id="188" name="Obraz 5" descr="6543357527_1d6e373c49_m.jpg"/>
              <p:cNvPicPr/>
              <p:nvPr/>
            </p:nvPicPr>
            <p:blipFill>
              <a:blip r:embed="rId3"/>
              <a:stretch/>
            </p:blipFill>
            <p:spPr>
              <a:xfrm>
                <a:off x="2594160" y="1828800"/>
                <a:ext cx="1678320" cy="167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Prostokąt 15"/>
              <p:cNvSpPr/>
              <p:nvPr/>
            </p:nvSpPr>
            <p:spPr>
              <a:xfrm rot="20635800">
                <a:off x="2921760" y="245916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yk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upa 12"/>
            <p:cNvGrpSpPr/>
            <p:nvPr/>
          </p:nvGrpSpPr>
          <p:grpSpPr>
            <a:xfrm>
              <a:off x="536760" y="1904760"/>
              <a:ext cx="2151360" cy="2351880"/>
              <a:chOff x="536760" y="1904760"/>
              <a:chExt cx="2151360" cy="2351880"/>
            </a:xfrm>
          </p:grpSpPr>
          <p:pic>
            <p:nvPicPr>
              <p:cNvPr id="191" name="Obraz 7" descr="6543357463_46125e643e_m.jpg"/>
              <p:cNvPicPr/>
              <p:nvPr/>
            </p:nvPicPr>
            <p:blipFill>
              <a:blip r:embed="rId4"/>
              <a:stretch/>
            </p:blipFill>
            <p:spPr>
              <a:xfrm rot="21073200">
                <a:off x="685440" y="2033640"/>
                <a:ext cx="1853640" cy="209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Prostokąt 11"/>
              <p:cNvSpPr/>
              <p:nvPr/>
            </p:nvSpPr>
            <p:spPr>
              <a:xfrm rot="18919200">
                <a:off x="813600" y="2565360"/>
                <a:ext cx="1372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unkt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odpunk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4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22" descr=""/>
          <p:cNvPicPr/>
          <p:nvPr/>
        </p:nvPicPr>
        <p:blipFill>
          <a:blip r:embed="rId6"/>
          <a:stretch/>
        </p:blipFill>
        <p:spPr>
          <a:xfrm>
            <a:off x="2362320" y="4191120"/>
            <a:ext cx="3495600" cy="17809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"/>
          <p:cNvPicPr/>
          <p:nvPr/>
        </p:nvPicPr>
        <p:blipFill>
          <a:blip r:embed="rId7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eryfikacj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rostokąt 4"/>
          <p:cNvSpPr/>
          <p:nvPr/>
        </p:nvSpPr>
        <p:spPr>
          <a:xfrm>
            <a:off x="228600" y="762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chcemy wykorzystać pozyskane informacje, zawsze należy je zweryfikować. Weryfikacja taka powinna dotyczyć zarówno ich </a:t>
            </a: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wiarygodn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jak i </a:t>
            </a: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aktualn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9" descr="5656317370_f64e080a68_m.jpg"/>
          <p:cNvPicPr/>
          <p:nvPr/>
        </p:nvPicPr>
        <p:blipFill>
          <a:blip r:embed="rId1"/>
          <a:stretch/>
        </p:blipFill>
        <p:spPr>
          <a:xfrm>
            <a:off x="3124080" y="40006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02" name="Prostokąt zaokrąglony 5"/>
          <p:cNvSpPr/>
          <p:nvPr/>
        </p:nvSpPr>
        <p:spPr>
          <a:xfrm>
            <a:off x="228600" y="1828800"/>
            <a:ext cx="32767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Calibri"/>
                <a:ea typeface="Times New Roman CE"/>
              </a:rPr>
              <a:t>Wiarygodn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czyli fachowość i bezstronność informacji, sprawdzana poprzez jakość źródła informacji, tj.: występowanie informacji o pochodzeniu, wydawnictwo, postać autora, doświadczenie autora, organizac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rostokąt zaokrąglony 6"/>
          <p:cNvSpPr/>
          <p:nvPr/>
        </p:nvSpPr>
        <p:spPr>
          <a:xfrm>
            <a:off x="5105520" y="3657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Calibri"/>
                <a:ea typeface="Times New Roman CE"/>
              </a:rPr>
              <a:t>Aktualn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błędogenność, nieścisłości, aktualizac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ontrola formaln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28240" y="1142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Dane pozyskane w dowolny sposób powinny zostać poddane weryfikacji wstępnej, zwanej także </a:t>
            </a: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kontrolą</a:t>
            </a:r>
            <a:r>
              <a:rPr b="1" lang="pl-PL" sz="2000" spc="-1" strike="noStrike">
                <a:solidFill>
                  <a:srgbClr val="898989"/>
                </a:solidFill>
                <a:latin typeface="Calibri"/>
                <a:ea typeface="Times New Roman CE"/>
              </a:rPr>
              <a:t> </a:t>
            </a: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formalną</a:t>
            </a:r>
            <a:r>
              <a:rPr b="0" lang="pl-PL" sz="2000" spc="-1" strike="noStrike">
                <a:solidFill>
                  <a:srgbClr val="898989"/>
                </a:solidFill>
                <a:latin typeface="Calibri"/>
                <a:ea typeface="Times New Roman C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Obraz 7" descr="4786644887_ce7e478e99_m.jpg"/>
          <p:cNvPicPr/>
          <p:nvPr/>
        </p:nvPicPr>
        <p:blipFill>
          <a:blip r:embed="rId1"/>
          <a:srcRect l="0" t="1996" r="0" b="34570"/>
          <a:stretch/>
        </p:blipFill>
        <p:spPr>
          <a:xfrm>
            <a:off x="1066680" y="2666880"/>
            <a:ext cx="6019920" cy="3818160"/>
          </a:xfrm>
          <a:prstGeom prst="rect">
            <a:avLst/>
          </a:prstGeom>
          <a:ln w="0">
            <a:noFill/>
          </a:ln>
        </p:spPr>
      </p:pic>
      <p:pic>
        <p:nvPicPr>
          <p:cNvPr id="212" name="Prostokąt 8" descr=""/>
          <p:cNvPicPr/>
          <p:nvPr/>
        </p:nvPicPr>
        <p:blipFill>
          <a:blip r:embed="rId2"/>
          <a:stretch/>
        </p:blipFill>
        <p:spPr>
          <a:xfrm>
            <a:off x="-311040" y="2146320"/>
            <a:ext cx="2719440" cy="2462040"/>
          </a:xfrm>
          <a:prstGeom prst="rect">
            <a:avLst/>
          </a:prstGeom>
          <a:ln w="0">
            <a:noFill/>
          </a:ln>
        </p:spPr>
      </p:pic>
      <p:pic>
        <p:nvPicPr>
          <p:cNvPr id="213" name="Prostokąt 9" descr=""/>
          <p:cNvPicPr/>
          <p:nvPr/>
        </p:nvPicPr>
        <p:blipFill>
          <a:blip r:embed="rId3"/>
          <a:stretch/>
        </p:blipFill>
        <p:spPr>
          <a:xfrm>
            <a:off x="4145040" y="2530440"/>
            <a:ext cx="1914480" cy="1212840"/>
          </a:xfrm>
          <a:prstGeom prst="rect">
            <a:avLst/>
          </a:prstGeom>
          <a:ln w="0">
            <a:noFill/>
          </a:ln>
        </p:spPr>
      </p:pic>
      <p:sp>
        <p:nvSpPr>
          <p:cNvPr id="214" name="Prostokąt 4"/>
          <p:cNvSpPr/>
          <p:nvPr/>
        </p:nvSpPr>
        <p:spPr>
          <a:xfrm rot="1686000">
            <a:off x="5419800" y="49446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rostokąt 17" descr=""/>
          <p:cNvPicPr/>
          <p:nvPr/>
        </p:nvPicPr>
        <p:blipFill>
          <a:blip r:embed="rId4"/>
          <a:stretch/>
        </p:blipFill>
        <p:spPr>
          <a:xfrm>
            <a:off x="6261120" y="3833640"/>
            <a:ext cx="2035080" cy="1555920"/>
          </a:xfrm>
          <a:prstGeom prst="rect">
            <a:avLst/>
          </a:prstGeom>
          <a:ln w="0">
            <a:noFill/>
          </a:ln>
        </p:spPr>
      </p:pic>
      <p:grpSp>
        <p:nvGrpSpPr>
          <p:cNvPr id="21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7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ontrola merytoryczn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581280" y="198108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rzelicz, czy udział procentowy całości nie przekracza 100 pro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Czy posiadane dane wydają ci się możliwe w świetle posiadanej przez ciebie wiedzy ogólnej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dstawowa zasada dziennikarstwa, czyli konieczność posiadania informacji z dwóch niezależnych źródeł (o ile jednym ze źródeł nie jest źródło eksperckie, na które możesz się jawnie powołać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Czy dane uzyskane z tych dwóch źródeł są spójne? W przypadku rozbieżności znajdź przynajmniej jeszcze jedno niezależne źródło i gdy stwierdzisz zgodność z którymkolwiek z wcześniejszych źródeł, powołaj się na te d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upa 8"/>
          <p:cNvGrpSpPr/>
          <p:nvPr/>
        </p:nvGrpSpPr>
        <p:grpSpPr>
          <a:xfrm>
            <a:off x="225360" y="990720"/>
            <a:ext cx="7699320" cy="3995640"/>
            <a:chOff x="225360" y="990720"/>
            <a:chExt cx="7699320" cy="3995640"/>
          </a:xfrm>
        </p:grpSpPr>
        <p:sp>
          <p:nvSpPr>
            <p:cNvPr id="224" name="Prostokąt 4"/>
            <p:cNvSpPr/>
            <p:nvPr/>
          </p:nvSpPr>
          <p:spPr>
            <a:xfrm>
              <a:off x="234360" y="990720"/>
              <a:ext cx="7690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stępnie należy przeprowadzić </a:t>
              </a:r>
              <a:r>
                <a:rPr b="1" lang="pl-PL" sz="2000" spc="-1" strike="noStrike">
                  <a:solidFill>
                    <a:srgbClr val="0070c0"/>
                  </a:solidFill>
                  <a:latin typeface="Times New Roman CE"/>
                  <a:ea typeface="Times New Roman CE"/>
                </a:rPr>
                <a:t>weryfikację merytoryczną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, w której dokonujesz logicznej kontroli rzetelności przedstawionych dany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Obraz 7" descr="5099166861_884d0b74e6_m.jpg"/>
            <p:cNvPicPr/>
            <p:nvPr/>
          </p:nvPicPr>
          <p:blipFill>
            <a:blip r:embed="rId1"/>
            <a:stretch/>
          </p:blipFill>
          <p:spPr>
            <a:xfrm>
              <a:off x="225360" y="2865240"/>
              <a:ext cx="3173400" cy="21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dstawowe poję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upa 18"/>
          <p:cNvGrpSpPr/>
          <p:nvPr/>
        </p:nvGrpSpPr>
        <p:grpSpPr>
          <a:xfrm>
            <a:off x="0" y="1828800"/>
            <a:ext cx="8215200" cy="1117440"/>
            <a:chOff x="0" y="1828800"/>
            <a:chExt cx="8215200" cy="1117440"/>
          </a:xfrm>
        </p:grpSpPr>
        <p:pic>
          <p:nvPicPr>
            <p:cNvPr id="60" name="Obraz 11" descr="3200958640_0ddac1ca8c_m.jpg"/>
            <p:cNvPicPr/>
            <p:nvPr/>
          </p:nvPicPr>
          <p:blipFill>
            <a:blip r:embed="rId2"/>
            <a:stretch/>
          </p:blipFill>
          <p:spPr>
            <a:xfrm>
              <a:off x="0" y="1828800"/>
              <a:ext cx="1676160" cy="11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Prostokąt zaokrąglony 5"/>
            <p:cNvSpPr/>
            <p:nvPr/>
          </p:nvSpPr>
          <p:spPr>
            <a:xfrm>
              <a:off x="1828800" y="2133360"/>
              <a:ext cx="63864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Odbiorca wiadomości 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– obiekt, który odbiera wiadomoś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upa 19"/>
          <p:cNvGrpSpPr/>
          <p:nvPr/>
        </p:nvGrpSpPr>
        <p:grpSpPr>
          <a:xfrm>
            <a:off x="228600" y="3048120"/>
            <a:ext cx="8132760" cy="1295280"/>
            <a:chOff x="228600" y="3048120"/>
            <a:chExt cx="8132760" cy="1295280"/>
          </a:xfrm>
        </p:grpSpPr>
        <p:pic>
          <p:nvPicPr>
            <p:cNvPr id="63" name="Obraz 12" descr="5677419706_3c151b012e_m.jpg"/>
            <p:cNvPicPr/>
            <p:nvPr/>
          </p:nvPicPr>
          <p:blipFill>
            <a:blip r:embed="rId3"/>
            <a:stretch/>
          </p:blipFill>
          <p:spPr>
            <a:xfrm>
              <a:off x="6477120" y="3048120"/>
              <a:ext cx="1884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Prostokąt zaokrąglony 6"/>
            <p:cNvSpPr/>
            <p:nvPr/>
          </p:nvSpPr>
          <p:spPr>
            <a:xfrm>
              <a:off x="228600" y="3200400"/>
              <a:ext cx="609624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Wiadomość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 – obiekt przesyłany między źródłem a odbiorcą wiadomości, może mieć dowolną postać, ale musi zawierać pewną informację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upa 17"/>
          <p:cNvGrpSpPr/>
          <p:nvPr/>
        </p:nvGrpSpPr>
        <p:grpSpPr>
          <a:xfrm>
            <a:off x="304920" y="762120"/>
            <a:ext cx="7569000" cy="1041120"/>
            <a:chOff x="304920" y="762120"/>
            <a:chExt cx="7569000" cy="1041120"/>
          </a:xfrm>
        </p:grpSpPr>
        <p:sp>
          <p:nvSpPr>
            <p:cNvPr id="66" name="Prostokąt zaokrąglony 4"/>
            <p:cNvSpPr/>
            <p:nvPr/>
          </p:nvSpPr>
          <p:spPr>
            <a:xfrm>
              <a:off x="304920" y="990720"/>
              <a:ext cx="58672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Źródło wiadomości </a:t>
              </a:r>
              <a:r>
                <a:rPr b="1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– 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obiekt, który nadaje wiadomoś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Obraz 10" descr="radio1.jpg"/>
            <p:cNvPicPr/>
            <p:nvPr/>
          </p:nvPicPr>
          <p:blipFill>
            <a:blip r:embed="rId4"/>
            <a:stretch/>
          </p:blipFill>
          <p:spPr>
            <a:xfrm>
              <a:off x="6324840" y="762120"/>
              <a:ext cx="1549080" cy="10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upa 20"/>
          <p:cNvGrpSpPr/>
          <p:nvPr/>
        </p:nvGrpSpPr>
        <p:grpSpPr>
          <a:xfrm>
            <a:off x="304920" y="4419720"/>
            <a:ext cx="7924680" cy="1218960"/>
            <a:chOff x="304920" y="4419720"/>
            <a:chExt cx="7924680" cy="1218960"/>
          </a:xfrm>
        </p:grpSpPr>
        <p:sp>
          <p:nvSpPr>
            <p:cNvPr id="69" name="Prostokąt zaokrąglony 7"/>
            <p:cNvSpPr/>
            <p:nvPr/>
          </p:nvSpPr>
          <p:spPr>
            <a:xfrm>
              <a:off x="1828800" y="4724280"/>
              <a:ext cx="640080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Informacja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 – właściwość obiektów, której istotą jest zmniejszenie niepewności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raz 14" descr="info.jpg"/>
            <p:cNvPicPr/>
            <p:nvPr/>
          </p:nvPicPr>
          <p:blipFill>
            <a:blip r:embed="rId5"/>
            <a:stretch/>
          </p:blipFill>
          <p:spPr>
            <a:xfrm>
              <a:off x="304920" y="441972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upa 21"/>
          <p:cNvGrpSpPr/>
          <p:nvPr/>
        </p:nvGrpSpPr>
        <p:grpSpPr>
          <a:xfrm>
            <a:off x="838080" y="5562720"/>
            <a:ext cx="6477120" cy="1295280"/>
            <a:chOff x="838080" y="5562720"/>
            <a:chExt cx="6477120" cy="1295280"/>
          </a:xfrm>
        </p:grpSpPr>
        <p:sp>
          <p:nvSpPr>
            <p:cNvPr id="72" name="Prostokąt zaokrąglony 8"/>
            <p:cNvSpPr/>
            <p:nvPr/>
          </p:nvSpPr>
          <p:spPr>
            <a:xfrm>
              <a:off x="838080" y="6095880"/>
              <a:ext cx="505656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Wiedza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 – ogół posiadanych informacj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Obraz 16" descr="know.jpg"/>
            <p:cNvPicPr/>
            <p:nvPr/>
          </p:nvPicPr>
          <p:blipFill>
            <a:blip r:embed="rId6"/>
            <a:stretch/>
          </p:blipFill>
          <p:spPr>
            <a:xfrm>
              <a:off x="6118560" y="5562720"/>
              <a:ext cx="119664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7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upa 12"/>
          <p:cNvGrpSpPr/>
          <p:nvPr/>
        </p:nvGrpSpPr>
        <p:grpSpPr>
          <a:xfrm>
            <a:off x="304920" y="228600"/>
            <a:ext cx="7848360" cy="2806560"/>
            <a:chOff x="304920" y="228600"/>
            <a:chExt cx="7848360" cy="2806560"/>
          </a:xfrm>
        </p:grpSpPr>
        <p:pic>
          <p:nvPicPr>
            <p:cNvPr id="77" name="Obraz 6" descr="6189645663_9e725c797a_m.jpg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1904760" cy="28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rostokąt 7"/>
            <p:cNvSpPr/>
            <p:nvPr/>
          </p:nvSpPr>
          <p:spPr>
            <a:xfrm>
              <a:off x="2438280" y="1371240"/>
              <a:ext cx="57150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Times New Roman CE"/>
                  <a:ea typeface="Times New Roman CE"/>
                </a:rPr>
                <a:t>Informacj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przedstawione w postaci, która umożliwia ich przetwarzanie za pomocą programów komputerowych, nazywają się </a:t>
              </a:r>
              <a:r>
                <a:rPr b="1" lang="pl-PL" sz="2000" spc="-1" strike="noStrike">
                  <a:solidFill>
                    <a:srgbClr val="0070c0"/>
                  </a:solidFill>
                  <a:latin typeface="Times New Roman CE"/>
                  <a:ea typeface="Times New Roman CE"/>
                </a:rPr>
                <a:t>danym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. Podobnie danymi są informacje, które powstały na skutek przetwarzania danych w komputerz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rostokąt zaokrąglony 8"/>
          <p:cNvSpPr/>
          <p:nvPr/>
        </p:nvSpPr>
        <p:spPr>
          <a:xfrm>
            <a:off x="1905120" y="373392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Da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informacje w postaci zrozumiałej dla kompute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rostokąt zaokrąglony 9"/>
          <p:cNvSpPr/>
          <p:nvPr/>
        </p:nvSpPr>
        <p:spPr>
          <a:xfrm>
            <a:off x="1905120" y="4800600"/>
            <a:ext cx="58672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Dane wejściowe –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dane wprowadzane do kompute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zaokrąglony 10"/>
          <p:cNvSpPr/>
          <p:nvPr/>
        </p:nvSpPr>
        <p:spPr>
          <a:xfrm>
            <a:off x="1905120" y="556272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Dane wyjściowe –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dane powstałe wskutek przetwarzania w komputer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Zarządzanie informacj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19" descr="3173188601_1c2119f4bb_m.jpg"/>
          <p:cNvPicPr/>
          <p:nvPr/>
        </p:nvPicPr>
        <p:blipFill>
          <a:blip r:embed="rId1"/>
          <a:stretch/>
        </p:blipFill>
        <p:spPr>
          <a:xfrm>
            <a:off x="2819520" y="3657600"/>
            <a:ext cx="2263680" cy="3017880"/>
          </a:xfrm>
          <a:prstGeom prst="rect">
            <a:avLst/>
          </a:prstGeom>
          <a:ln w="0">
            <a:noFill/>
          </a:ln>
        </p:spPr>
      </p:pic>
      <p:grpSp>
        <p:nvGrpSpPr>
          <p:cNvPr id="89" name="Grupa 21"/>
          <p:cNvGrpSpPr/>
          <p:nvPr/>
        </p:nvGrpSpPr>
        <p:grpSpPr>
          <a:xfrm>
            <a:off x="3962520" y="1219320"/>
            <a:ext cx="3200400" cy="1143000"/>
            <a:chOff x="3962520" y="1219320"/>
            <a:chExt cx="3200400" cy="1143000"/>
          </a:xfrm>
        </p:grpSpPr>
        <p:sp>
          <p:nvSpPr>
            <p:cNvPr id="90" name="Prostokąt 16"/>
            <p:cNvSpPr/>
            <p:nvPr/>
          </p:nvSpPr>
          <p:spPr>
            <a:xfrm>
              <a:off x="4126320" y="1602720"/>
              <a:ext cx="17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twarzan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bjaśnienie w chmurce 20"/>
            <p:cNvSpPr/>
            <p:nvPr/>
          </p:nvSpPr>
          <p:spPr>
            <a:xfrm>
              <a:off x="3962520" y="1219320"/>
              <a:ext cx="3200400" cy="1143000"/>
            </a:xfrm>
            <a:prstGeom prst="cloudCallout">
              <a:avLst>
                <a:gd name="adj1" fmla="val -52425"/>
                <a:gd name="adj2" fmla="val 151652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26"/>
          <p:cNvGrpSpPr/>
          <p:nvPr/>
        </p:nvGrpSpPr>
        <p:grpSpPr>
          <a:xfrm>
            <a:off x="4876920" y="2438280"/>
            <a:ext cx="3429000" cy="1219320"/>
            <a:chOff x="4876920" y="2438280"/>
            <a:chExt cx="3429000" cy="1219320"/>
          </a:xfrm>
        </p:grpSpPr>
        <p:pic>
          <p:nvPicPr>
            <p:cNvPr id="93" name="Obraz 5" descr="dok3.jpg"/>
            <p:cNvPicPr/>
            <p:nvPr/>
          </p:nvPicPr>
          <p:blipFill>
            <a:blip r:embed="rId2"/>
            <a:stretch/>
          </p:blipFill>
          <p:spPr>
            <a:xfrm>
              <a:off x="7143480" y="2621160"/>
              <a:ext cx="488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rostokąt 15"/>
            <p:cNvSpPr/>
            <p:nvPr/>
          </p:nvSpPr>
          <p:spPr>
            <a:xfrm>
              <a:off x="5219640" y="27194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chowywa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bjaśnienie w chmurce 25"/>
            <p:cNvSpPr/>
            <p:nvPr/>
          </p:nvSpPr>
          <p:spPr>
            <a:xfrm>
              <a:off x="4876920" y="2438280"/>
              <a:ext cx="3429000" cy="1219320"/>
            </a:xfrm>
            <a:prstGeom prst="cloudCallout">
              <a:avLst>
                <a:gd name="adj1" fmla="val -59685"/>
                <a:gd name="adj2" fmla="val 60041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upa 31"/>
          <p:cNvGrpSpPr/>
          <p:nvPr/>
        </p:nvGrpSpPr>
        <p:grpSpPr>
          <a:xfrm>
            <a:off x="380880" y="914400"/>
            <a:ext cx="3276720" cy="1371600"/>
            <a:chOff x="380880" y="914400"/>
            <a:chExt cx="3276720" cy="1371600"/>
          </a:xfrm>
        </p:grpSpPr>
        <p:pic>
          <p:nvPicPr>
            <p:cNvPr id="97" name="Obraz 4" descr="5328008843_b770e7d995_m.jpg"/>
            <p:cNvPicPr/>
            <p:nvPr/>
          </p:nvPicPr>
          <p:blipFill>
            <a:blip r:embed="rId3"/>
            <a:stretch/>
          </p:blipFill>
          <p:spPr>
            <a:xfrm>
              <a:off x="2269080" y="914400"/>
              <a:ext cx="892080" cy="10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rostokąt 14"/>
            <p:cNvSpPr/>
            <p:nvPr/>
          </p:nvSpPr>
          <p:spPr>
            <a:xfrm>
              <a:off x="676800" y="1257120"/>
              <a:ext cx="180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szukiwani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pozyskiwani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bjaśnienie w chmurce 30"/>
            <p:cNvSpPr/>
            <p:nvPr/>
          </p:nvSpPr>
          <p:spPr>
            <a:xfrm>
              <a:off x="380880" y="914400"/>
              <a:ext cx="3276720" cy="1371600"/>
            </a:xfrm>
            <a:prstGeom prst="cloudCallout">
              <a:avLst>
                <a:gd name="adj1" fmla="val 34898"/>
                <a:gd name="adj2" fmla="val 154300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21" descr=""/>
          <p:cNvPicPr/>
          <p:nvPr/>
        </p:nvPicPr>
        <p:blipFill>
          <a:blip r:embed="rId5"/>
          <a:stretch/>
        </p:blipFill>
        <p:spPr>
          <a:xfrm>
            <a:off x="5943600" y="1371600"/>
            <a:ext cx="758880" cy="43344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Źródł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upa 24"/>
          <p:cNvGrpSpPr/>
          <p:nvPr/>
        </p:nvGrpSpPr>
        <p:grpSpPr>
          <a:xfrm>
            <a:off x="4648320" y="1143000"/>
            <a:ext cx="3262320" cy="1905120"/>
            <a:chOff x="4648320" y="1143000"/>
            <a:chExt cx="3262320" cy="1905120"/>
          </a:xfrm>
        </p:grpSpPr>
        <p:pic>
          <p:nvPicPr>
            <p:cNvPr id="111" name="Obraz 5" descr="5119948921_8c53aa798d_m.jpg"/>
            <p:cNvPicPr/>
            <p:nvPr/>
          </p:nvPicPr>
          <p:blipFill>
            <a:blip r:embed="rId2"/>
            <a:stretch/>
          </p:blipFill>
          <p:spPr>
            <a:xfrm>
              <a:off x="4648320" y="1143000"/>
              <a:ext cx="3262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rostokąt zaokrąglony 18"/>
            <p:cNvSpPr/>
            <p:nvPr/>
          </p:nvSpPr>
          <p:spPr>
            <a:xfrm>
              <a:off x="5181480" y="2590920"/>
              <a:ext cx="243864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upa 23"/>
          <p:cNvGrpSpPr/>
          <p:nvPr/>
        </p:nvGrpSpPr>
        <p:grpSpPr>
          <a:xfrm>
            <a:off x="914400" y="838080"/>
            <a:ext cx="2438280" cy="2438640"/>
            <a:chOff x="914400" y="838080"/>
            <a:chExt cx="2438280" cy="2438640"/>
          </a:xfrm>
        </p:grpSpPr>
        <p:pic>
          <p:nvPicPr>
            <p:cNvPr id="114" name="Obraz 6" descr="5520352624_eea85d8d12_m.jpg"/>
            <p:cNvPicPr/>
            <p:nvPr/>
          </p:nvPicPr>
          <p:blipFill>
            <a:blip r:embed="rId3"/>
            <a:stretch/>
          </p:blipFill>
          <p:spPr>
            <a:xfrm>
              <a:off x="1066680" y="838080"/>
              <a:ext cx="1371600" cy="22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Prostokąt zaokrąglony 19"/>
            <p:cNvSpPr/>
            <p:nvPr/>
          </p:nvSpPr>
          <p:spPr>
            <a:xfrm>
              <a:off x="914400" y="2819520"/>
              <a:ext cx="24382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książk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upa 26"/>
          <p:cNvGrpSpPr/>
          <p:nvPr/>
        </p:nvGrpSpPr>
        <p:grpSpPr>
          <a:xfrm>
            <a:off x="5181480" y="3733920"/>
            <a:ext cx="2590920" cy="2666880"/>
            <a:chOff x="5181480" y="3733920"/>
            <a:chExt cx="2590920" cy="2666880"/>
          </a:xfrm>
        </p:grpSpPr>
        <p:pic>
          <p:nvPicPr>
            <p:cNvPr id="117" name="Obraz 7" descr="gazeta.jpg"/>
            <p:cNvPicPr/>
            <p:nvPr/>
          </p:nvPicPr>
          <p:blipFill>
            <a:blip r:embed="rId4"/>
            <a:stretch/>
          </p:blipFill>
          <p:spPr>
            <a:xfrm>
              <a:off x="5410080" y="3733920"/>
              <a:ext cx="2286360" cy="241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Prostokąt zaokrąglony 20"/>
            <p:cNvSpPr/>
            <p:nvPr/>
          </p:nvSpPr>
          <p:spPr>
            <a:xfrm>
              <a:off x="5181480" y="5943600"/>
              <a:ext cx="259092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czasopis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upa 25"/>
          <p:cNvGrpSpPr/>
          <p:nvPr/>
        </p:nvGrpSpPr>
        <p:grpSpPr>
          <a:xfrm>
            <a:off x="609480" y="3962520"/>
            <a:ext cx="3048120" cy="2438280"/>
            <a:chOff x="609480" y="3962520"/>
            <a:chExt cx="3048120" cy="2438280"/>
          </a:xfrm>
        </p:grpSpPr>
        <p:pic>
          <p:nvPicPr>
            <p:cNvPr id="120" name="Obraz 10" descr="dom.jpg"/>
            <p:cNvPicPr/>
            <p:nvPr/>
          </p:nvPicPr>
          <p:blipFill>
            <a:blip r:embed="rId5"/>
            <a:stretch/>
          </p:blipFill>
          <p:spPr>
            <a:xfrm>
              <a:off x="609480" y="3962520"/>
              <a:ext cx="304812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rostokąt zaokrąglony 21"/>
            <p:cNvSpPr/>
            <p:nvPr/>
          </p:nvSpPr>
          <p:spPr>
            <a:xfrm>
              <a:off x="914040" y="5943600"/>
              <a:ext cx="274356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bibliotek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ole tekstowe 2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Obraz 4" descr="5960196221_3978fa1683_m.jpg"/>
          <p:cNvPicPr/>
          <p:nvPr/>
        </p:nvPicPr>
        <p:blipFill>
          <a:blip r:embed="rId2"/>
          <a:stretch/>
        </p:blipFill>
        <p:spPr>
          <a:xfrm>
            <a:off x="457200" y="106668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rzechowywanie informacji osobist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rostokąt zaokrąglony 7"/>
          <p:cNvSpPr/>
          <p:nvPr/>
        </p:nvSpPr>
        <p:spPr>
          <a:xfrm rot="21320400">
            <a:off x="3543480" y="2192040"/>
            <a:ext cx="3352680" cy="1069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omputer (odpowiednia struktura przechowywania, programy do zarządza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rostokąt zaokrąglony 8"/>
          <p:cNvSpPr/>
          <p:nvPr/>
        </p:nvSpPr>
        <p:spPr>
          <a:xfrm rot="21309600">
            <a:off x="3746160" y="3417480"/>
            <a:ext cx="3352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teczki, skoroszy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szukiwanie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2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Analiza treśc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(wyciąganie informacji istotnych spośród informacji nieistotnych) – informacje często są podane jawnie w tekście ciągłym, ale nieraz w sposób mało czytelny i są otoczone mniej lub bardziej istotnym dla nas komentarz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9" descr=""/>
          <p:cNvPicPr/>
          <p:nvPr/>
        </p:nvPicPr>
        <p:blipFill>
          <a:blip r:embed="rId2"/>
          <a:stretch/>
        </p:blipFill>
        <p:spPr>
          <a:xfrm>
            <a:off x="2590920" y="3505320"/>
            <a:ext cx="3752640" cy="2676240"/>
          </a:xfrm>
          <a:prstGeom prst="rect">
            <a:avLst/>
          </a:prstGeom>
          <a:ln w="0">
            <a:noFill/>
          </a:ln>
        </p:spPr>
      </p:pic>
      <p:sp>
        <p:nvSpPr>
          <p:cNvPr id="13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az 4" descr="5736215127_fc6cb9aa72_m.jpg"/>
          <p:cNvPicPr/>
          <p:nvPr/>
        </p:nvPicPr>
        <p:blipFill>
          <a:blip r:embed="rId1"/>
          <a:stretch/>
        </p:blipFill>
        <p:spPr>
          <a:xfrm>
            <a:off x="3200400" y="3670200"/>
            <a:ext cx="3200400" cy="318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73915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Uzupełnianie informacji</a:t>
            </a:r>
            <a:r>
              <a:rPr b="0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 –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 ciągu 30 lat liczba ludności na ziemi powiększy się o kolejny miliard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zdanie to mówi nam o przyroście (zmianie) liczby ludności w określonym, podanym przedziale czasowym. By uzyskać pełnię informacji z tego zdania, powinniśmy dodatkowo znać obecną liczbę ludnoś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szukiwanie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raz 7" descr="4642721856_72be156c84_m.jpg"/>
          <p:cNvPicPr/>
          <p:nvPr/>
        </p:nvPicPr>
        <p:blipFill>
          <a:blip r:embed="rId1"/>
          <a:stretch/>
        </p:blipFill>
        <p:spPr>
          <a:xfrm>
            <a:off x="0" y="22096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szukiwanie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Porównywalność informacji –</a:t>
            </a:r>
            <a:r>
              <a:rPr b="0" lang="pl-PL" sz="2000" spc="-1" strike="noStrike">
                <a:solidFill>
                  <a:srgbClr val="898989"/>
                </a:solidFill>
                <a:latin typeface="Calibri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często przy porównywaniu danych masz do czynienia z liczbami wyrażonymi w różny sposób. Mogą się różni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rostokąt zaokrąglony 5"/>
          <p:cNvSpPr/>
          <p:nvPr/>
        </p:nvSpPr>
        <p:spPr>
          <a:xfrm>
            <a:off x="2819520" y="243828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nazewnictwem: 1 000 000 000 to amerykański bilion (krótka skala) i nasz miliard (długa ska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zaokrąglony 6"/>
          <p:cNvSpPr/>
          <p:nvPr/>
        </p:nvSpPr>
        <p:spPr>
          <a:xfrm>
            <a:off x="2286000" y="3581280"/>
            <a:ext cx="5943600" cy="2362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typografią (czyli sposobem zapisu): w języku polskim możemy oddzielać spacjami grupy trzycyfrowe, czyli 17124 albo 17 124; natomiast w języku angielskim stosujemy przecinki, czyli 17,124. W języku polskim przecinek, dzieli część całkowitą liczby oraz część ułamkową, czyli 17 124,5; w języku angielskim w tym celu stosuje się kropkę, czyli 17,124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6:00:51Z</dcterms:created>
  <dc:creator>x</dc:creator>
  <dc:description/>
  <dc:language>en-US</dc:language>
  <cp:lastModifiedBy>Gosia</cp:lastModifiedBy>
  <dcterms:modified xsi:type="dcterms:W3CDTF">2013-01-31T18:55:49Z</dcterms:modified>
  <cp:revision>66</cp:revision>
  <dc:subject/>
  <dc:title>Slajd 1</dc:title>
</cp:coreProperties>
</file>